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png" ContentType="image/png"/>
  <Override PartName="/ppt/media/image1.jpeg" ContentType="image/jpeg"/>
  <Override PartName="/ppt/media/image2.png" ContentType="image/png"/>
  <Override PartName="/ppt/media/image4.jpeg" ContentType="image/jpeg"/>
  <Override PartName="/ppt/media/image6.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4.png" ContentType="image/png"/>
  <Override PartName="/ppt/media/image10.jpeg" ContentType="image/jpeg"/>
  <Override PartName="/ppt/media/image5.png" ContentType="image/png"/>
  <Override PartName="/ppt/media/image13.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7003F-FDEE-4A31-B2F3-7D72D508A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7263A-1E0D-4B8F-A4F7-26C02AB52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D763A-6C56-42CD-B7E7-B14846404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BA6A1-8275-4559-8CDD-B056EFED1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4D48F-5729-466D-B019-4A064CD57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4AC0D-CF9D-41AB-B72F-8CFFB6A02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D6059-5672-4B76-99B7-87DB6F440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52A6F-98D1-40D6-8587-571C2BC6B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C8F91-B2F6-4567-937A-10A0FC401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F56EF-E581-4E7C-A9FA-2C22BDE1A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0706F-85BF-4CA8-A260-68378D9FB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98B4E-7935-416B-8F69-B2BDB8A51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31512-7E48-4914-9C4F-6BAAEBF69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64E7F-E8BE-4770-AD1D-23B68DB40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436F9-98AD-400F-9569-94BB30AAA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407E6-9EFB-4175-A15B-B72691B9B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8ED3D-F3CF-4B92-84D3-BC45434EC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9139E3-BF3C-4D93-AF9B-AE5CD181B8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DC0CB-147C-4B31-A2B3-A574B982B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54251-0C95-4746-AB48-F3C69D107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8A9FF0-904B-430F-BEF3-17D2EE7B1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1BB3B-B4B9-4B85-B157-4E37445EB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0E3E5-6754-4E3B-BD8C-D7FADE682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1F427-137F-434E-AD09-500529EF8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B194D-F88E-410B-9F4F-1574D67D0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693F5-7E2F-403C-AAB9-010FE35DA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A8D87-1FFE-445D-9422-6BD7C3E6E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FBD76-9E68-4960-83AB-72AA2ADEA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6227F8-D180-4805-87FF-A814628EDE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515060-E20E-4AE8-A975-96408D2053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42AEFD-8F54-4C7A-86FC-D5C76D5251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BEAB16-2674-4A54-9988-BA790AB06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B9D5E-CA45-4BCB-979B-10FC2A6DFA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2F7D0-AD99-434F-96B4-D34AD7B46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D78679-CD42-4506-88CB-C407A9B93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416C35-7FD7-470B-AE29-E7A4C5332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41D98C-A244-4C8B-9B5F-1E393971A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FEF1D-CB8E-4FA6-BE87-182A9509CF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0BC4F-6C12-41CD-8C64-F7C41190C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3282F-D4A1-42EA-A99B-609F34A76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327CB-077D-4AC7-9A01-9A1FE4D34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56C06C-885B-42CA-A32E-5C5E588C25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225A61-705D-4E04-8A1A-CBE2DE073E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AC04B6-A2DD-43DC-A60E-5358E9E3D7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376A7-85CE-4931-B4C4-B1C436444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69AD59-A42D-4A1E-87B3-E6987BC17F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03D2EB-B246-44B6-84FB-AF29558B3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E0A6DB-2748-4C27-99AF-BA1A3BB55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82F528-C9CA-4945-8E61-FF9D04150C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38692D-CA25-4370-902C-A4562E70B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85303-E882-4B3E-A0C4-F4EC0F2758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D2812E-D55F-48C0-8DF9-A3D35F5FD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D943B-446B-47E0-8927-65D225F6D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E87E8E-A7E8-4436-AA1D-131D434DB0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767117-7ECF-4329-BCE0-EC84EC84C4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C9CFB-BE39-425D-8671-2FC9765B2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67D8AC-BA96-401E-B372-D76B0AF598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0AF3C-6C03-4F17-9B47-B181D368E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50D69-AE44-4817-8693-B8F0C7A03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ABBE-0F56-43D9-A46A-DA34DC11A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ED67-D32D-4D19-8E46-EA746979A9A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C3C8F-1DB0-455D-AFCA-B343B75C3FE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A855-103C-406A-841B-8C052E3AD0B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4"/>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5"/>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7"/>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791F-0977-41BB-A3CA-1C81354AD91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E243-E0EE-42F1-9401-A7677C499BE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2"/>
          <a:stretch/>
        </p:blipFill>
        <p:spPr>
          <a:xfrm>
            <a:off x="-609480" y="914400"/>
            <a:ext cx="304560" cy="304920"/>
          </a:xfrm>
          <a:prstGeom prst="rect">
            <a:avLst/>
          </a:prstGeom>
          <a:ln w="0">
            <a:noFill/>
          </a:ln>
        </p:spPr>
      </p:pic>
      <p:pic>
        <p:nvPicPr>
          <p:cNvPr id="247" name="MS910220001[1].wav" descr=""/>
          <p:cNvPicPr/>
          <p:nvPr/>
        </p:nvPicPr>
        <p:blipFill>
          <a:blip r:embed="rId3"/>
          <a:stretch/>
        </p:blipFill>
        <p:spPr>
          <a:xfrm>
            <a:off x="-685800" y="914400"/>
            <a:ext cx="304920" cy="304920"/>
          </a:xfrm>
          <a:prstGeom prst="rect">
            <a:avLst/>
          </a:prstGeom>
          <a:ln w="0">
            <a:noFill/>
          </a:ln>
        </p:spPr>
      </p:pic>
      <p:pic>
        <p:nvPicPr>
          <p:cNvPr id="248" name="Picture 9" descr="MC900332360[1]"/>
          <p:cNvPicPr/>
          <p:nvPr/>
        </p:nvPicPr>
        <p:blipFill>
          <a:blip r:embed="rId4">
            <a:lum bright="-18000"/>
          </a:blip>
          <a:stretch/>
        </p:blipFill>
        <p:spPr>
          <a:xfrm>
            <a:off x="304920" y="2906640"/>
            <a:ext cx="3581280" cy="3414960"/>
          </a:xfrm>
          <a:prstGeom prst="rect">
            <a:avLst/>
          </a:prstGeom>
          <a:ln w="0">
            <a:noFill/>
          </a:ln>
        </p:spPr>
      </p:pic>
      <p:pic>
        <p:nvPicPr>
          <p:cNvPr id="249" name="Picture 12" descr="MC900186300[2]"/>
          <p:cNvPicPr/>
          <p:nvPr/>
        </p:nvPicPr>
        <p:blipFill>
          <a:blip r:embed="rId5">
            <a:lum bright="-24000"/>
          </a:blip>
          <a:srcRect l="0" t="0" r="0" b="7310"/>
          <a:stretch/>
        </p:blipFill>
        <p:spPr>
          <a:xfrm>
            <a:off x="5342040" y="2895480"/>
            <a:ext cx="3421080" cy="3429000"/>
          </a:xfrm>
          <a:prstGeom prst="rect">
            <a:avLst/>
          </a:prstGeom>
          <a:ln w="0">
            <a:noFill/>
          </a:ln>
        </p:spPr>
      </p:pic>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304560"/>
            <a:ext cx="876312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empus Sans ITC"/>
              </a:rPr>
              <a:t>Save the Orangutans from </a:t>
            </a:r>
            <a:r>
              <a:rPr b="1" lang="en-US" sz="4400" spc="-1" strike="noStrike" u="sng">
                <a:solidFill>
                  <a:srgbClr val="ff0000"/>
                </a:solidFill>
                <a:uFillTx/>
                <a:latin typeface="Tempus Sans ITC"/>
              </a:rPr>
              <a:t>Extinction</a:t>
            </a:r>
            <a:endParaRPr b="0" lang="en-US" sz="4400" spc="-1" strike="noStrike">
              <a:solidFill>
                <a:srgbClr val="04617b"/>
              </a:solidFill>
              <a:latin typeface="Calibri"/>
            </a:endParaRPr>
          </a:p>
        </p:txBody>
      </p:sp>
      <p:pic>
        <p:nvPicPr>
          <p:cNvPr id="285" name="Picture 9" descr="orangutan"/>
          <p:cNvPicPr/>
          <p:nvPr/>
        </p:nvPicPr>
        <p:blipFill>
          <a:blip r:embed="rId2"/>
          <a:srcRect l="0" t="0" r="20836" b="0"/>
          <a:stretch/>
        </p:blipFill>
        <p:spPr>
          <a:xfrm>
            <a:off x="0" y="2666880"/>
            <a:ext cx="9144000" cy="419112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2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empus Sans ITC"/>
              </a:rPr>
              <a:t>Know</a:t>
            </a:r>
            <a:endParaRPr b="0" lang="en-US" sz="5000" spc="-1" strike="noStrike">
              <a:solidFill>
                <a:srgbClr val="04617b"/>
              </a:solidFill>
              <a:latin typeface="Calibri"/>
            </a:endParaRPr>
          </a:p>
        </p:txBody>
      </p:sp>
      <p:sp>
        <p:nvSpPr>
          <p:cNvPr id="251" name="Rectangle 3"/>
          <p:cNvSpPr/>
          <p:nvPr/>
        </p:nvSpPr>
        <p:spPr>
          <a:xfrm>
            <a:off x="152280" y="1295280"/>
            <a:ext cx="8534520" cy="5257800"/>
          </a:xfrm>
          <a:prstGeom prst="rect">
            <a:avLst/>
          </a:prstGeom>
          <a:noFill/>
          <a:ln w="0">
            <a:noFill/>
          </a:ln>
        </p:spPr>
        <p:style>
          <a:lnRef idx="0"/>
          <a:fillRef idx="0"/>
          <a:effectRef idx="0"/>
          <a:fontRef idx="minor"/>
        </p:style>
        <p:txBody>
          <a:bodyPr lIns="90000" rIns="90000" tIns="46800" bIns="46800" anchor="t">
            <a:noAutofit/>
          </a:bodyPr>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ngutans are dying due to deforestation, diseases, and forest fires caused by palm tree plantation owners.</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od Chain</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angutans are attacked by people when the orangutans seek cover from the forest fires.</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Know (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empus Sans ITC"/>
              </a:rPr>
              <a:t>Need to Know</a:t>
            </a:r>
            <a:endParaRPr b="0" lang="en-US" sz="5000" spc="-1" strike="noStrike">
              <a:solidFill>
                <a:srgbClr val="04617b"/>
              </a:solidFill>
              <a:latin typeface="Calibri"/>
            </a:endParaRPr>
          </a:p>
        </p:txBody>
      </p:sp>
      <p:sp>
        <p:nvSpPr>
          <p:cNvPr id="255" name="Rectangle 3"/>
          <p:cNvSpPr/>
          <p:nvPr/>
        </p:nvSpPr>
        <p:spPr>
          <a:xfrm>
            <a:off x="152280" y="1295280"/>
            <a:ext cx="8534520" cy="525780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ties involv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efits of the solutions implement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equences of the solutions implement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utions already implemented</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y Indonesia refuses help from other count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imated number of orangutan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57" name="Picture 4" descr="MC900295619[1]"/>
          <p:cNvPicPr/>
          <p:nvPr/>
        </p:nvPicPr>
        <p:blipFill>
          <a:blip r:embed="rId2"/>
          <a:stretch/>
        </p:blipFill>
        <p:spPr>
          <a:xfrm>
            <a:off x="6858000" y="4815000"/>
            <a:ext cx="2286000" cy="2043000"/>
          </a:xfrm>
          <a:prstGeom prst="rect">
            <a:avLst/>
          </a:prstGeom>
          <a:ln w="0">
            <a:noFill/>
          </a:ln>
        </p:spPr>
      </p:pic>
      <p:sp>
        <p:nvSpPr>
          <p:cNvPr id="258" name="Text Box 6"/>
          <p:cNvSpPr/>
          <p:nvPr/>
        </p:nvSpPr>
        <p:spPr>
          <a:xfrm>
            <a:off x="0" y="1066680"/>
            <a:ext cx="899172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import unemployed foreign workers/ local workers to protected areas. Fund-raising campaigns and grants from other developed countries will aid effort of employing workers to guard and protect affected and protected areas. That way, we can keep the Orangutans safe. We will also have hidden CCTV cameras and rangers to patrol the forested areas. The imported workers will be given high pay which will ensure that they do not take bribes and at the same time do their work properly.</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ducation</a:t>
            </a:r>
            <a:endParaRPr b="0" lang="en-US" sz="5000" spc="-1" strike="noStrike">
              <a:solidFill>
                <a:srgbClr val="04617b"/>
              </a:solidFill>
              <a:latin typeface="Calibri"/>
            </a:endParaRPr>
          </a:p>
        </p:txBody>
      </p:sp>
      <p:sp>
        <p:nvSpPr>
          <p:cNvPr id="260" name="PlaceHolder 2"/>
          <p:cNvSpPr>
            <a:spLocks noGrp="1"/>
          </p:cNvSpPr>
          <p:nvPr>
            <p:ph/>
          </p:nvPr>
        </p:nvSpPr>
        <p:spPr>
          <a:xfrm>
            <a:off x="0" y="1219320"/>
            <a:ext cx="4495680" cy="5333760"/>
          </a:xfrm>
          <a:prstGeom prst="rect">
            <a:avLst/>
          </a:prstGeom>
          <a:noFill/>
          <a:ln w="0">
            <a:noFill/>
          </a:ln>
        </p:spPr>
        <p:txBody>
          <a:bodyPr lIns="90000" rIns="90000" tIns="46800" bIns="46800" anchor="t">
            <a:normAutofit/>
          </a:bodyPr>
          <a:p>
            <a:pPr marL="27288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We will be providing the villagers of Kalimantan free education, a salary of 8000 rupiah per family. Furthermore, the education policy will comprise of basic ethics and how the villagers are supposed to harvest and farm.</a:t>
            </a:r>
            <a:endParaRPr b="0" lang="en-US" sz="2200" spc="-1" strike="noStrike">
              <a:solidFill>
                <a:srgbClr val="000000"/>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p:txBody>
      </p:sp>
      <p:pic>
        <p:nvPicPr>
          <p:cNvPr id="261" name="Text Placeholder 29" descr=""/>
          <p:cNvPicPr/>
          <p:nvPr/>
        </p:nvPicPr>
        <p:blipFill>
          <a:blip r:embed="rId2"/>
          <a:stretch/>
        </p:blipFill>
        <p:spPr>
          <a:xfrm>
            <a:off x="4876920" y="1371600"/>
            <a:ext cx="3763800" cy="37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1920" y="-360"/>
            <a:ext cx="899172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63"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5" descr="MC900157631[1]"/>
          <p:cNvPicPr/>
          <p:nvPr/>
        </p:nvPicPr>
        <p:blipFill>
          <a:blip r:embed="rId2"/>
          <a:stretch/>
        </p:blipFill>
        <p:spPr>
          <a:xfrm>
            <a:off x="7391520" y="5483160"/>
            <a:ext cx="1492200" cy="1108080"/>
          </a:xfrm>
          <a:prstGeom prst="rect">
            <a:avLst/>
          </a:prstGeom>
          <a:ln w="0">
            <a:noFill/>
          </a:ln>
        </p:spPr>
      </p:pic>
      <p:pic>
        <p:nvPicPr>
          <p:cNvPr id="265" name="Picture 6" descr="MC900215545[1]"/>
          <p:cNvPicPr/>
          <p:nvPr/>
        </p:nvPicPr>
        <p:blipFill>
          <a:blip r:embed="rId3"/>
          <a:stretch/>
        </p:blipFill>
        <p:spPr>
          <a:xfrm>
            <a:off x="228600" y="5754600"/>
            <a:ext cx="1600200" cy="1103400"/>
          </a:xfrm>
          <a:prstGeom prst="rect">
            <a:avLst/>
          </a:prstGeom>
          <a:ln w="0">
            <a:noFill/>
          </a:ln>
        </p:spPr>
      </p:pic>
      <p:sp>
        <p:nvSpPr>
          <p:cNvPr id="266" name="Text Box 7"/>
          <p:cNvSpPr/>
          <p:nvPr/>
        </p:nvSpPr>
        <p:spPr>
          <a:xfrm>
            <a:off x="228600" y="99072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add on to existing structures allocated for agricultural purposes like farmland. The crops can be grown in separate “containers” and then, the trees can be harvested. This way, the locals who are allocated this farmland structure to grow their crops, can get income by selling those crops or they can consume crops. We can also have the government paying villagers an agreed small sum of money until their crops are mature enough to be harvested to earn them a steady source of income. This way, they can earn income as well as gather food instead of burning the forest down.</a:t>
            </a:r>
            <a:endParaRPr b="0" lang="en-US" sz="24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7" name="Picture 26" descr=""/>
          <p:cNvPicPr/>
          <p:nvPr/>
        </p:nvPicPr>
        <p:blipFill>
          <a:blip r:embed="rId2"/>
          <a:srcRect l="981" t="0" r="0" b="948"/>
          <a:stretch/>
        </p:blipFill>
        <p:spPr>
          <a:xfrm>
            <a:off x="304920" y="2133720"/>
            <a:ext cx="8381880" cy="3816360"/>
          </a:xfrm>
          <a:prstGeom prst="rect">
            <a:avLst/>
          </a:prstGeom>
          <a:ln w="0">
            <a:noFill/>
          </a:ln>
        </p:spPr>
      </p:pic>
      <p:sp>
        <p:nvSpPr>
          <p:cNvPr id="268" name="Text Box 27"/>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Model Of Structure for Growing and Harvesting Crops</a:t>
            </a:r>
            <a:endParaRPr b="0" lang="en-US" sz="3600" spc="-1" strike="noStrike">
              <a:solidFill>
                <a:srgbClr val="000000"/>
              </a:solidFill>
              <a:latin typeface="Arial"/>
            </a:endParaRPr>
          </a:p>
        </p:txBody>
      </p:sp>
      <p:sp>
        <p:nvSpPr>
          <p:cNvPr id="269" name="Tree"/>
          <p:cNvSpPr/>
          <p:nvPr/>
        </p:nvSpPr>
        <p:spPr>
          <a:xfrm>
            <a:off x="45720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ree"/>
          <p:cNvSpPr/>
          <p:nvPr/>
        </p:nvSpPr>
        <p:spPr>
          <a:xfrm>
            <a:off x="1600200" y="419112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ree"/>
          <p:cNvSpPr/>
          <p:nvPr/>
        </p:nvSpPr>
        <p:spPr>
          <a:xfrm>
            <a:off x="380880" y="419112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ree"/>
          <p:cNvSpPr/>
          <p:nvPr/>
        </p:nvSpPr>
        <p:spPr>
          <a:xfrm>
            <a:off x="2971800" y="426708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ree"/>
          <p:cNvSpPr/>
          <p:nvPr/>
        </p:nvSpPr>
        <p:spPr>
          <a:xfrm>
            <a:off x="5715000" y="419112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ree"/>
          <p:cNvSpPr/>
          <p:nvPr/>
        </p:nvSpPr>
        <p:spPr>
          <a:xfrm>
            <a:off x="571500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ree"/>
          <p:cNvSpPr/>
          <p:nvPr/>
        </p:nvSpPr>
        <p:spPr>
          <a:xfrm>
            <a:off x="304812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ree"/>
          <p:cNvSpPr/>
          <p:nvPr/>
        </p:nvSpPr>
        <p:spPr>
          <a:xfrm>
            <a:off x="167652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ree"/>
          <p:cNvSpPr/>
          <p:nvPr/>
        </p:nvSpPr>
        <p:spPr>
          <a:xfrm>
            <a:off x="7010280" y="419112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ree"/>
          <p:cNvSpPr/>
          <p:nvPr/>
        </p:nvSpPr>
        <p:spPr>
          <a:xfrm>
            <a:off x="693432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ree"/>
          <p:cNvSpPr/>
          <p:nvPr/>
        </p:nvSpPr>
        <p:spPr>
          <a:xfrm>
            <a:off x="4267080" y="297180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ree"/>
          <p:cNvSpPr/>
          <p:nvPr/>
        </p:nvSpPr>
        <p:spPr>
          <a:xfrm>
            <a:off x="4267080" y="4267080"/>
            <a:ext cx="1285920" cy="1057320"/>
          </a:xfrm>
          <a:prstGeom prst="pie">
            <a:avLst/>
          </a:prstGeom>
          <a:solidFill>
            <a:srgbClr val="008000">
              <a:alpha val="62000"/>
            </a:srgbClr>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82" name="Picture 10" descr="http://t3.gstatic.com/images?q=tbn:ANd9GcQos2e_tPjmr57FOi_wUjfqYy-Dcg7EfdWJTUhedohqhs2SvtSm5w"/>
          <p:cNvPicPr/>
          <p:nvPr/>
        </p:nvPicPr>
        <p:blipFill>
          <a:blip r:embed="rId2"/>
          <a:stretch/>
        </p:blipFill>
        <p:spPr>
          <a:xfrm>
            <a:off x="7540560" y="5632560"/>
            <a:ext cx="1378080" cy="1023840"/>
          </a:xfrm>
          <a:prstGeom prst="rect">
            <a:avLst/>
          </a:prstGeom>
          <a:ln w="0">
            <a:noFill/>
          </a:ln>
        </p:spPr>
      </p:pic>
      <p:sp>
        <p:nvSpPr>
          <p:cNvPr id="283" name="Text Box 20"/>
          <p:cNvSpPr/>
          <p:nvPr/>
        </p:nvSpPr>
        <p:spPr>
          <a:xfrm>
            <a:off x="152280" y="1295280"/>
            <a:ext cx="8839440" cy="5511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remove the demand for palm oil as it is not a good bio-fuel either! Instead, other green bio-fuels can be harvested such as Bio-gas and Switch-grass. Less land space is needed to harvest and produce these bio-fuels. Furthermore, they are cleaner, cheaper, and faster to cultivate.</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Furthermore, we will have campaigns to encourage people around the world to decrease their usage of Palm-oil. We will use mediums such as Facebook, Twitter, You-tube, newspapers, online forums and television. We will also create a “palm-oil free” logo which will be printed on products world-wide. This will decrease the demand for palm-oil.</a:t>
            </a:r>
            <a:endParaRPr b="0" lang="en-US" sz="24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Rosyth School</cp:lastModifiedBy>
  <dcterms:modified xsi:type="dcterms:W3CDTF">2011-09-14T04:23:15Z</dcterms:modified>
  <cp:revision>21</cp:revision>
  <dc:subject/>
  <dc:title>Slide 1</dc:title>
</cp:coreProperties>
</file>